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80095"/>
        <c:axId val="85811358"/>
      </c:barChart>
      <c:catAx>
        <c:axId val="15780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11358"/>
        <c:crosses val="autoZero"/>
        <c:auto val="1"/>
        <c:lblAlgn val="ctr"/>
        <c:lblOffset val="100"/>
        <c:noMultiLvlLbl val="0"/>
      </c:catAx>
      <c:valAx>
        <c:axId val="85811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80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5D3-BA1D-4C0D-9A0B-CD88CD03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734-793C-456A-ABE8-D5F32419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BC8-F4EC-44C1-926F-67395C27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FD0-82C1-4106-8D26-4CA33592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122-8A48-4FDD-9C2D-B532D1E0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88F-6FBC-4358-9AEA-3B8B8FA1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FC1-495D-4894-8B96-1ABBD7C4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3EE-F228-4ED0-9D50-9FFE2D4E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067-A50C-495D-8226-A1F6F755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C66-4849-438C-AC20-688FC5D8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F0A-36E4-4D99-A102-F0DDC48E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431-1C18-4004-A453-15E54C44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D350B-2B20-49CE-9F62-AF76457CC7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