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99163"/>
        <c:axId val="48872813"/>
      </c:barChart>
      <c:catAx>
        <c:axId val="12299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72813"/>
        <c:crosses val="autoZero"/>
        <c:auto val="1"/>
        <c:lblAlgn val="ctr"/>
        <c:lblOffset val="100"/>
        <c:noMultiLvlLbl val="0"/>
      </c:catAx>
      <c:valAx>
        <c:axId val="48872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99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141-C42F-420E-ADAE-6346EE51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DE9-4634-4BF4-A035-63A7651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372-38ED-4499-BDE9-EEAE1870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53B-1F01-4E5B-B3C4-F6F7C9CB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F54-24A6-4471-9C96-4BAE9D37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A39-A5BB-46C5-8918-3AA68503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97E-74FF-4678-8CA9-A5B6D2B4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177-2675-48FB-AC44-081BE569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695-DE47-4578-BB95-AD7914B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121-B2C4-40E6-87B7-43331453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160-17C5-4AD1-89E1-BCF51F3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D06-0101-4183-B9FE-70566B23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0F522-D927-4BEB-9FB9-0DFE48D105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