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85767"/>
        <c:axId val="21326077"/>
      </c:barChart>
      <c:catAx>
        <c:axId val="48085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26077"/>
        <c:crosses val="autoZero"/>
        <c:auto val="1"/>
        <c:lblAlgn val="ctr"/>
        <c:lblOffset val="100"/>
        <c:noMultiLvlLbl val="0"/>
      </c:catAx>
      <c:valAx>
        <c:axId val="21326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85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10D-21C4-418C-8535-4FA06781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FC1-8A99-40B7-AE08-C83AD6A6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9D1-166E-4874-B7B5-8B5B0C9F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31A-CF98-4B71-A448-36F8254C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0D7-E17A-4E53-8A33-FE80DA9A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E4D-EAE1-4E55-8AB0-AC060794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E08-6027-4B0F-8327-7028074A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052-5F17-4C0E-A49E-C5DE2CE4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C4E-0AE0-48B7-ACE6-EDEAF2BD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176-5E21-4646-B786-75829395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D09-567E-41F4-83F3-7C85BC94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791-8FCB-4236-9F4A-A618ED48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95100-3F22-4802-846C-F398071204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