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26684"/>
        <c:axId val="84383018"/>
      </c:barChart>
      <c:catAx>
        <c:axId val="31126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83018"/>
        <c:crosses val="autoZero"/>
        <c:auto val="1"/>
        <c:lblAlgn val="ctr"/>
        <c:lblOffset val="100"/>
        <c:noMultiLvlLbl val="0"/>
      </c:catAx>
      <c:valAx>
        <c:axId val="84383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26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4C4-7E96-4117-967E-27BE9590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5EF-7867-465F-AC70-44529362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168-F49A-4CEF-B239-D4A677B2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E62-3A8E-4F5B-B59D-8467A735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025-34E1-4889-B3D4-1D3EBE47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207-AACB-441C-8B07-21519501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B8A-27E1-4887-BB2E-FCCD92FC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230-0702-41D3-9F5B-7535F6BF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A22-B892-42FC-9915-3B375D12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167-CAA9-42D7-BBF9-DF4339B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762-EDE1-49F3-BF3D-56FB98C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1F6-8AB1-4350-9F1F-9196E369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2A8E8-09DE-477C-9FED-9B600058AA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