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85194"/>
        <c:axId val="33135374"/>
      </c:barChart>
      <c:catAx>
        <c:axId val="65485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35374"/>
        <c:crosses val="autoZero"/>
        <c:auto val="1"/>
        <c:lblAlgn val="ctr"/>
        <c:lblOffset val="100"/>
        <c:noMultiLvlLbl val="0"/>
      </c:catAx>
      <c:valAx>
        <c:axId val="33135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85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CE0-53AF-4019-8EB4-9576CDF0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399-A5A6-47E7-BD05-A6B25200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EA6-BEAB-4496-98FA-382A66C8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936-22C2-4C90-84B1-A7C6350C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846-79A0-4D1F-BD6B-9400BE9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46E-7E64-457C-B092-3A61686A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2EB-C2E0-45B3-8250-36EEE6D7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816-C6F0-4BA1-9EE3-DD525CDE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36A-4059-49EB-BCEE-EA1B9A4A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686-81B3-401D-BE60-B12E788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45A-BF3A-45BD-8577-AD6A98D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FD9-40A1-4411-95D9-3345877A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5BF83-19E6-4AF2-AEF3-9E1418E4F8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