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35453"/>
        <c:axId val="99396652"/>
      </c:barChart>
      <c:catAx>
        <c:axId val="69035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96652"/>
        <c:crosses val="autoZero"/>
        <c:auto val="1"/>
        <c:lblAlgn val="ctr"/>
        <c:lblOffset val="100"/>
        <c:noMultiLvlLbl val="0"/>
      </c:catAx>
      <c:valAx>
        <c:axId val="99396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35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569-0F69-40C5-A230-FB313EC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DEF-23E2-4C89-ACA7-65D41640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2CA-6FE4-4D82-B6B1-E6E6B3D5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890-3C95-49FB-83A4-B7EC9C8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287-3E46-4E31-B93E-2CC64E8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6D8-4C1A-48C2-9CCD-16FB281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B05-109D-4A13-98E9-5773D06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BAD-5647-4DD5-9030-746106FF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29A-23EE-43B3-A10A-913B1346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706-FF76-44F7-84EB-32ED494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02C-BE74-4BC5-8C1C-42CFEE6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7DE-7B83-432A-9F2F-5AE3F8F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77149-0B80-4E6B-86BC-B4DC48E82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