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97794"/>
        <c:axId val="85769731"/>
      </c:barChart>
      <c:catAx>
        <c:axId val="35297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69731"/>
        <c:crosses val="autoZero"/>
        <c:auto val="1"/>
        <c:lblAlgn val="ctr"/>
        <c:lblOffset val="100"/>
        <c:noMultiLvlLbl val="0"/>
      </c:catAx>
      <c:valAx>
        <c:axId val="85769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97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D1C-A1E8-4B3C-B98F-ED45D4CA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FD9-79B5-4BD7-94E0-BE323687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5EC-B18A-4EC0-8208-0AB415A7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CFF-A444-4373-A8F3-98C4E5A2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457-2A27-45C4-A26D-3DE7DF41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DC0-4AC4-4B9A-A546-2F6EC0C2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31F-9BCC-4AC4-9A58-E1C8EFD6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420-504F-4A3E-8A88-A5647298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3775-04FA-49FC-8689-2337CE46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601-D372-4B4F-A137-B656D958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45C-BCDB-4AA5-B442-140C74F9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E46-8B1D-44DF-A3F4-FF64AF0F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BABD1-DEB8-4616-B10D-2496FECDD9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