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87304"/>
        <c:axId val="48593651"/>
      </c:barChart>
      <c:catAx>
        <c:axId val="58187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93651"/>
        <c:crosses val="autoZero"/>
        <c:auto val="1"/>
        <c:lblAlgn val="ctr"/>
        <c:lblOffset val="100"/>
        <c:noMultiLvlLbl val="0"/>
      </c:catAx>
      <c:valAx>
        <c:axId val="48593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87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97A-66F9-495C-B20E-D198B5C9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BC5-5047-4DDA-841A-ADBCC5A4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CC3-0002-41B7-9D95-03435ABE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2F7-68D9-479D-990F-9C0FF09F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C5B-62D7-4DED-9AA9-7D1158A8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FF1-AB53-4D47-B9CD-570B8108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8DA-8D2E-41AF-B3CA-2F3B1D1E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55C-9742-462C-89A8-8AD3172B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956-0AB8-413A-8188-D9E203D0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D2C-04B0-4883-A859-2EE6A61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9DC-EFDC-4273-9323-8DE65038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0B7-AF82-491D-A161-317F743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80ADE-D9A3-40E0-95B6-6E0B9B0827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