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13047"/>
        <c:axId val="92321344"/>
      </c:barChart>
      <c:catAx>
        <c:axId val="24613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21344"/>
        <c:crosses val="autoZero"/>
        <c:auto val="1"/>
        <c:lblAlgn val="ctr"/>
        <c:lblOffset val="100"/>
        <c:noMultiLvlLbl val="0"/>
      </c:catAx>
      <c:valAx>
        <c:axId val="92321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13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951-AD19-4AF4-97D5-94234E9B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E45-90BE-43B5-B043-5AB6C77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4A3-0F1F-4057-BC1D-8D3FAADA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00-211D-4DC5-8CBD-0A3683B0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8AB-5A26-48D3-9DBA-BDB87BE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675-DAF6-4355-AE4A-73179C92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CF1-F770-4D9C-9E45-D67F737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127-5D37-455E-A689-C713761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0B1-9AD5-4FC5-B9B9-96215A7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6CC-1AF9-4379-BEE2-828E4AF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523-8271-40EE-BCED-66A8C45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91D-A03B-4A9C-82C3-FAD8E38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A4004-A376-4662-9CFB-9A1B9E1C5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