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71720"/>
        <c:axId val="76898647"/>
      </c:barChart>
      <c:catAx>
        <c:axId val="97171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8647"/>
        <c:crosses val="autoZero"/>
        <c:auto val="1"/>
        <c:lblAlgn val="ctr"/>
        <c:lblOffset val="100"/>
        <c:noMultiLvlLbl val="0"/>
      </c:catAx>
      <c:valAx>
        <c:axId val="76898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71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C5-3B36-4644-BEDB-D3BFB2B4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C9A-D538-45CE-9193-7F5D35F4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CE3-81C5-4D55-8D13-23BE7B5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B2F-E49E-4739-8655-B1850253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FF1-F942-4C2A-A6F4-35001CDC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D60-27CF-44B7-8C2B-8BD014BF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97D-206C-4E38-A8F0-6BCCC00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838-37FA-4F6D-8519-1F90BBD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DB2-247D-4E35-B942-22747BC3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83C-D703-4D1B-9EC3-D2322A1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DF8-FB28-423F-9F4B-3D14D66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639-81D6-4570-8E85-4CEEFA0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593F1-50B7-48DF-8CF7-5ABFCA6C5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