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87325"/>
        <c:axId val="17642157"/>
      </c:barChart>
      <c:catAx>
        <c:axId val="985873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42157"/>
        <c:crosses val="autoZero"/>
        <c:auto val="1"/>
        <c:lblAlgn val="ctr"/>
        <c:lblOffset val="100"/>
        <c:noMultiLvlLbl val="0"/>
      </c:catAx>
      <c:valAx>
        <c:axId val="176421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873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AE1-103F-4E33-AA3B-150FB29D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C22-F480-4E59-84A9-F8FA0F78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9DD4-6F91-438D-946C-D2E4CFA3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20E3-49F6-42CE-A7A9-1F58F9B8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9D1-20D9-4551-B83F-B0AB39AF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FBD-FD2F-43C3-9111-038384B3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A1D-1318-4A80-9060-BEFA9458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8A54-54B4-4E6D-965A-FCD59979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CA47-2D7C-4CDA-BD39-A3A9DDE8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79CE-9DA9-4C68-8C98-6438F207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967-E42D-4B8E-8100-8509B46D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BAD0-1517-44C1-A29A-A01EC148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73EFB-F59F-45A6-BC14-86870DA8EB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