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37481"/>
        <c:axId val="31679066"/>
      </c:barChart>
      <c:catAx>
        <c:axId val="33737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9066"/>
        <c:crosses val="autoZero"/>
        <c:auto val="1"/>
        <c:lblAlgn val="ctr"/>
        <c:lblOffset val="100"/>
        <c:noMultiLvlLbl val="0"/>
      </c:catAx>
      <c:valAx>
        <c:axId val="31679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7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B18-DF66-4595-847A-B23319A0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B5D-A167-4DFD-8056-08511027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D88-139F-4709-BF98-456337A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788-40AE-4D54-9226-BDEBD7B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5FB-ECF9-47B4-928D-59D393F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CC09-11A9-41B5-AF4B-0D500E45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AA6-B3EB-44E5-ABA6-DE94B50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27C-7987-4858-BB70-61A3D7E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78B-D5E1-43B4-8DC0-A4E63A6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308-5FA4-4CC1-A1FE-646635B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2B9-C742-4714-B3A4-ACB7907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5EB-D05A-40E0-9EA5-4F7D916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8F4CB-E775-4383-A511-EB839149E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