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07310"/>
        <c:axId val="63870581"/>
      </c:barChart>
      <c:catAx>
        <c:axId val="10907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0581"/>
        <c:crosses val="autoZero"/>
        <c:auto val="1"/>
        <c:lblAlgn val="ctr"/>
        <c:lblOffset val="100"/>
        <c:noMultiLvlLbl val="0"/>
      </c:catAx>
      <c:valAx>
        <c:axId val="63870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7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2A7-D9B2-44F7-9458-6E66E640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462-6EF1-492D-914C-EB02B77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A67-266C-4C11-AC41-BBBDB6AE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F4B-D272-45F3-B837-85EB80C3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D9B-5BF9-42A0-A809-46C9EEDB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AA2-3B0F-4D01-A374-646C04BE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FDC-2286-4E52-AFFC-9038A1D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EEC-B33B-4B55-BC8B-4E6EFFCD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DD6-8F57-425C-AE33-D3D9E6CB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BF7-A87D-4CA6-B102-C66C3E7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4E0-32C8-4F33-BB3B-5671A68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7FA-86A9-432A-B17B-B4834EB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E6713-38BE-44BE-8241-4E446763A1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