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08795"/>
        <c:axId val="69432278"/>
      </c:barChart>
      <c:catAx>
        <c:axId val="16808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32278"/>
        <c:crosses val="autoZero"/>
        <c:auto val="1"/>
        <c:lblAlgn val="ctr"/>
        <c:lblOffset val="100"/>
        <c:noMultiLvlLbl val="0"/>
      </c:catAx>
      <c:valAx>
        <c:axId val="69432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08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EE8-9530-40D5-A34B-FBA8E509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228-550B-4627-8BF2-0CC84876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1FE0-9CED-4966-BB0E-A7CE8BC6F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A2C-A67A-48F6-9AE8-745FD92C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27CF-B9EE-4BDD-952D-04808D32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CFD-B86C-4CC9-89DA-691574D2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DE23-3740-4BD8-8545-27B3501B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BEF-E863-46B6-82CA-67C80C91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6BC-377E-45FD-A039-5D6CDDC8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8F1-EBA9-4192-8301-B189A457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D79F-2034-4181-B4A7-1B320489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B6A-27B3-481D-8580-F29E6B48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E0C43-1C54-43B5-8729-B40246DE10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