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867541"/>
        <c:axId val="91743459"/>
      </c:barChart>
      <c:catAx>
        <c:axId val="468675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743459"/>
        <c:crosses val="autoZero"/>
        <c:auto val="1"/>
        <c:lblAlgn val="ctr"/>
        <c:lblOffset val="100"/>
        <c:noMultiLvlLbl val="0"/>
      </c:catAx>
      <c:valAx>
        <c:axId val="917434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8675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1185-A42C-49CA-A391-22706B7E2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4351-9FC4-4A96-BD14-1233919F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394B-F522-4B06-951F-A9C0813A0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8C51-F372-47B5-B6BE-0761FEEB5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35C3-4DDC-4794-ACB2-E4C92725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DC91-F3B1-41FE-9240-E3203AC0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196C-BDEC-4068-9A74-58E42941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E1B9-64A8-45EF-AC13-89CBEF54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7BA3-AF3C-4230-B856-1A08FB72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B2D0-9090-443B-9954-9C6A6139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2A1F-D646-4A23-9ADE-5DAF4C72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A78A-7D73-42A4-AA30-000D5573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B2653A-7569-4FF7-9FB6-EC90F9409C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