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39052"/>
        <c:axId val="16898174"/>
      </c:barChart>
      <c:catAx>
        <c:axId val="44039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98174"/>
        <c:crosses val="autoZero"/>
        <c:auto val="1"/>
        <c:lblAlgn val="ctr"/>
        <c:lblOffset val="100"/>
        <c:noMultiLvlLbl val="0"/>
      </c:catAx>
      <c:valAx>
        <c:axId val="16898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39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593-BEB2-4244-94BC-921DF1D6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745-5F05-4DAC-B408-B0D580B1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881-0D15-4B6B-BF1A-6764F08B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570-41AD-4ABE-A70D-BF4A160F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5DB-B44C-4B2E-96DA-F6132F5F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A20-A880-4AA1-B8A1-F216F923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F64-6FAA-46D0-A2F5-A1777926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54D-3A7A-4DB8-AD27-CCC352BE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B35-13E6-4683-A7E7-91E6EEC2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BCA-2AAD-4B82-9AC9-28F011D5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D20-4A5B-4995-9541-A66A7D13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62B-39A0-4FD5-BA21-57B152A9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CCB24-A4AC-4464-BD57-170655058C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