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80292"/>
        <c:axId val="63655730"/>
      </c:barChart>
      <c:catAx>
        <c:axId val="86580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5730"/>
        <c:crosses val="autoZero"/>
        <c:auto val="1"/>
        <c:lblAlgn val="ctr"/>
        <c:lblOffset val="100"/>
        <c:noMultiLvlLbl val="0"/>
      </c:catAx>
      <c:valAx>
        <c:axId val="63655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0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E0F-7028-4BC6-B5AD-8C0463F0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C63-6A7E-443F-96A5-3BA5F28D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A80-64FF-45AA-9E00-9ACC46EE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5C0-4127-4381-9880-A31029FB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961-FEB2-4976-8A31-6A7AE7E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75F-5C21-4544-9DD9-91A876C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9A5-0003-4125-8662-2D67DA7A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0F4-830F-4DFB-AC1C-AFB79E3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AA8-9D56-438F-AD18-93A19813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1F7-3E46-45D8-A2AB-9CA33115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D04-4F1F-4B4F-AE05-71A6587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CF1-8755-4A54-81D9-0DB41FD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06B96-90B5-4450-AE55-0DFA5667E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