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90164"/>
        <c:axId val="7237487"/>
      </c:barChart>
      <c:catAx>
        <c:axId val="46990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7487"/>
        <c:crosses val="autoZero"/>
        <c:auto val="1"/>
        <c:lblAlgn val="ctr"/>
        <c:lblOffset val="100"/>
        <c:noMultiLvlLbl val="0"/>
      </c:catAx>
      <c:valAx>
        <c:axId val="7237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90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E12-8B39-4314-8DB0-EBDCE03B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8DC-CF4D-47EA-B77B-DF220B3E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6CD-2A81-4F44-B84D-E41D971E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E1B-FE98-44AA-86E2-6FC335C6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66D-2991-46D2-85D6-59C60840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560-1A1C-4B68-8475-6BC07EBB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708-EB94-4D79-82FC-5DFBB5CE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D91-E77C-49F9-B2A3-15CFDDD5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9B1-EDF1-4ADF-85AA-A6F05D2C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E0D-8E0A-42B0-B7EF-504A43A0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611-4E62-4C3E-B65A-3C31F15F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E5A-B108-47B3-BAEC-DF0E91C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3E9E-5999-459A-AB12-05C85C75E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