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157038"/>
        <c:axId val="13515663"/>
      </c:barChart>
      <c:catAx>
        <c:axId val="42157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15663"/>
        <c:crosses val="autoZero"/>
        <c:auto val="1"/>
        <c:lblAlgn val="ctr"/>
        <c:lblOffset val="100"/>
        <c:noMultiLvlLbl val="0"/>
      </c:catAx>
      <c:valAx>
        <c:axId val="13515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57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643-CB10-4E0E-9D51-B2921FFC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FC3-3B67-4E05-B783-43C6A26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63D-1D78-4AAA-BF3D-90CF4474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B88-7478-4359-ADC9-86912348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8A0-F68B-436B-B750-CFF10459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6F09-BE4A-4BDE-8F06-7681B85C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6DE7-BDED-4051-B0DB-944DFD0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CFC-9EE7-481B-BA8C-882F509F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C7B-5547-4DB8-AD0E-95A1E0F1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931A-250E-43D2-B9A9-87B61A91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64A-6BB4-4548-A1D9-00B733D3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F72-52F1-4651-A5E1-828A15C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F63F9-F0F4-4A27-B850-6A96DC68B3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