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973632"/>
        <c:axId val="29717386"/>
      </c:barChart>
      <c:catAx>
        <c:axId val="389736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717386"/>
        <c:crosses val="autoZero"/>
        <c:auto val="1"/>
        <c:lblAlgn val="ctr"/>
        <c:lblOffset val="100"/>
        <c:noMultiLvlLbl val="0"/>
      </c:catAx>
      <c:valAx>
        <c:axId val="297173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9736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1A72-D9F3-46AE-AA0B-AFF498FB7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6DD2-60AA-4261-B6A0-A93C146F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A42B-A945-4DD5-A506-69DEC696A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A03F-C255-419E-AFEA-492CB7FC9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B488-C327-4A56-B23E-3C46CAA8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FDD3-E119-4851-887F-C51C56AB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0580-6CD2-44CE-8520-49F72932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5064-FC54-4AE8-A9C3-05A11872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4F8E-8CFE-436D-BC33-3A6CBCF2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1086-1A85-464F-88AD-22E900FE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814C-FB7D-4D92-BF52-7F709E22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DDFD-7A4C-46C5-9A70-B6F58D4F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B6F1B8-DC4A-4511-9908-B06C88D24C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