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50542"/>
        <c:axId val="4902694"/>
      </c:barChart>
      <c:catAx>
        <c:axId val="46750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2694"/>
        <c:crosses val="autoZero"/>
        <c:auto val="1"/>
        <c:lblAlgn val="ctr"/>
        <c:lblOffset val="100"/>
        <c:noMultiLvlLbl val="0"/>
      </c:catAx>
      <c:valAx>
        <c:axId val="4902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50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050-940C-4034-9EE3-1CDE7482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7AE-AE7E-42FB-8829-551A618F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A7C-EE3E-43BA-9F36-D7F94045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DE5-E2FB-4783-A0C9-67ACB9CC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86F-806D-4943-81A1-7421D49A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981-D15E-4B00-A1A6-8612087B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AC0-E14A-4F55-A10A-4900B1E9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2B3-E865-4865-B755-659A0E36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8A0-0B25-4A99-A88E-7E9411EA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F7E-6E3B-4A30-9783-52295C0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87A-F10C-48FF-A7C0-B8F7DD60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533-CE83-45DD-A762-F3F1B301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452F3-C380-4C96-AACF-50994E05A3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