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84045"/>
        <c:axId val="24834457"/>
      </c:barChart>
      <c:catAx>
        <c:axId val="48584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34457"/>
        <c:crosses val="autoZero"/>
        <c:auto val="1"/>
        <c:lblAlgn val="ctr"/>
        <c:lblOffset val="100"/>
        <c:noMultiLvlLbl val="0"/>
      </c:catAx>
      <c:valAx>
        <c:axId val="24834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84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93A-94A2-44E0-9682-539E27BE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C928-C0A6-4AEB-8805-C26BE5A5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9B9C-A0D1-4C6F-8F85-C8D20F7E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06A9-C021-4F94-903B-ADBE165F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5D60-8CB3-42DB-A3DC-6E467738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ED9-4CA0-44FB-8E0A-81B85A6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223-AA55-4F0F-851B-6434E103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FA5-C375-4E4F-B350-2123A238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E04-FE0E-4581-B0F4-789907A48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20B-6BCB-4AE2-A3D6-4B882A74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7F6-3920-437B-A6B0-AE6D023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A6C4-67F3-4311-86ED-4D46AC28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A6D73-5F10-4442-ACA9-AF53DBACEE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