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12351"/>
        <c:axId val="41598615"/>
      </c:barChart>
      <c:catAx>
        <c:axId val="88812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98615"/>
        <c:crosses val="autoZero"/>
        <c:auto val="1"/>
        <c:lblAlgn val="ctr"/>
        <c:lblOffset val="100"/>
        <c:noMultiLvlLbl val="0"/>
      </c:catAx>
      <c:valAx>
        <c:axId val="41598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12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99F-E070-4338-B329-024E7CBF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584-FEC6-4735-88E4-80C0EA69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630-59A3-4C35-BDFC-38DD9293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363-93B0-454F-86D2-AE24A87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C36-3657-4DAC-A121-66EE145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5564-335C-46BD-8C53-143F4FA5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66E-0DA9-49BF-BEBC-6700574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EAF-EBFF-40AD-B7FB-2ACFB6E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614-7AD2-4748-AA5E-0EC8D8DA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522A-B3B5-48C1-ACC6-570C1735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2347-E19F-42AB-ADF7-E7B5B7E5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D88D-EBA9-45D1-879E-AE266AC7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D9DA9-4BC9-456F-99A7-1E4124FBFA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