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963792"/>
        <c:axId val="35697317"/>
      </c:barChart>
      <c:catAx>
        <c:axId val="259637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697317"/>
        <c:crosses val="autoZero"/>
        <c:auto val="1"/>
        <c:lblAlgn val="ctr"/>
        <c:lblOffset val="100"/>
        <c:noMultiLvlLbl val="0"/>
      </c:catAx>
      <c:valAx>
        <c:axId val="356973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9637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4D75-56C5-4AD4-966B-A10223CB6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2E70-3F69-430F-AF6D-1DBE74CEC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EEB2-4086-4884-8231-0C8AA56D9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D6DD-E9CF-461B-BBF6-CB37E5B7F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5FCC-5973-45C5-B0E6-8630F4366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73A4-B49B-45F7-936C-860F21385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E3DA-0AF7-43CB-866D-E7F7E8BDB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06BE-DABB-4D4D-9A0F-FFFF0097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91BF-BB3B-4295-B4EA-6D500D0E8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F1A2-61CA-4A06-87F3-16BB6ED6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9C79-D52F-447E-9DA7-86A0F564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B83B-4175-48B3-9824-0BAAB58F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AF7FEA-D3C8-4265-AD45-449BE4153E2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