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18555"/>
        <c:axId val="77573094"/>
      </c:barChart>
      <c:catAx>
        <c:axId val="41818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73094"/>
        <c:crosses val="autoZero"/>
        <c:auto val="1"/>
        <c:lblAlgn val="ctr"/>
        <c:lblOffset val="100"/>
        <c:noMultiLvlLbl val="0"/>
      </c:catAx>
      <c:valAx>
        <c:axId val="77573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18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F01-1710-4CC4-A632-2525FA81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808-FCE2-41AF-844D-0B362E9C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14E-60F7-418F-B021-2FBB5972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1B3-8DC5-4F70-8A89-55606164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D4F-654D-457B-A5E4-18E84A34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FE3-7035-4425-B702-CD0E5E52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35D-7751-4E77-BD79-3EBE71F3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246-2039-43E7-851D-4BB0473C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B7E-2B83-4D9A-8724-153AB64D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48A-AA6D-4FBB-A043-00E3FC4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0D2-65AD-478A-8BBE-DBFB50A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834-E887-4758-A929-3AE247D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E34FE-F52C-48B4-8068-78A1C56CA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