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99888"/>
        <c:axId val="23478471"/>
      </c:barChart>
      <c:catAx>
        <c:axId val="96499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8471"/>
        <c:crosses val="autoZero"/>
        <c:auto val="1"/>
        <c:lblAlgn val="ctr"/>
        <c:lblOffset val="100"/>
        <c:noMultiLvlLbl val="0"/>
      </c:catAx>
      <c:valAx>
        <c:axId val="23478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9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B9A-023C-4D6C-BA54-691CC009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FA6-D49B-4CA0-B8E0-6357C56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79A-19B1-4A93-A86C-FE8A4E0C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4A9-893E-47A9-BCC7-0FAE20D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A83-0DC5-44F0-81F4-80F38E6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ECF-985D-4D4A-9652-8ABF2B7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4C7-81B0-4E96-BA60-03FFB21B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FDC-4271-4F6B-88BC-D4A4E2D5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D0F-0EB7-41CF-AE75-EF630ED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F47-0724-404C-9527-F6C925C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592-C99A-4D4B-AE06-1F7A962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B3C-FA57-441A-B39D-DE8497F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73843-6D70-4F05-B11F-080D40612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