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69512"/>
        <c:axId val="22476671"/>
      </c:barChart>
      <c:catAx>
        <c:axId val="74695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476671"/>
        <c:crosses val="autoZero"/>
        <c:auto val="1"/>
        <c:lblAlgn val="ctr"/>
        <c:lblOffset val="100"/>
        <c:noMultiLvlLbl val="0"/>
      </c:catAx>
      <c:valAx>
        <c:axId val="224766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95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2941-3B04-42F0-B4B0-47FA4E911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E59E-C33C-4E84-9F06-B56A317D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FF93-F6BA-4F72-A59B-6C49E467F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DFC3-29A2-45D4-99A5-A13C73A6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4C97-8F6F-46B8-8200-F62D8EFB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DB6C-C8D6-4058-BDE0-1E3CB006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D0BA-3F7D-4AA7-9E55-58F6183C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4E00-1653-42EF-857A-ED0ABF31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8F34-7640-4B5A-8B7E-D405234E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C26B-7431-4E9E-9363-6D6148E2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DE68-1609-41C8-8DA4-20ECA8D2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97AB-05D2-4539-A223-B9995983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490E73-3B63-4811-88FD-6F238A3F1D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