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93023"/>
        <c:axId val="17391380"/>
      </c:barChart>
      <c:catAx>
        <c:axId val="31593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91380"/>
        <c:crosses val="autoZero"/>
        <c:auto val="1"/>
        <c:lblAlgn val="ctr"/>
        <c:lblOffset val="100"/>
        <c:noMultiLvlLbl val="0"/>
      </c:catAx>
      <c:valAx>
        <c:axId val="17391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93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BCA-A531-4B94-A35C-FE74F29B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078-1892-499C-8FCD-7547C8E1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E82-B253-481F-B70D-5AB12183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7FF-E00E-4DC1-9B93-2B75EF92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188-7C15-46CA-9BD3-8BE32DB2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B35-151C-4FC1-8D13-25C0CDC7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A43-4A96-4CFF-8297-C40EF7E2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EF4E-6567-473D-BAF2-6343C7F3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346-1A70-47C1-BD7B-5CD37391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2CA-2A13-4C8F-8138-88E58D49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76B-7DDF-443A-BFE0-9C83558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52F-40D8-4F63-8EDF-99501440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1BEF4-8743-42E0-B118-38F7CC9D10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