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62169"/>
        <c:axId val="13557060"/>
      </c:barChart>
      <c:catAx>
        <c:axId val="19962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57060"/>
        <c:crosses val="autoZero"/>
        <c:auto val="1"/>
        <c:lblAlgn val="ctr"/>
        <c:lblOffset val="100"/>
        <c:noMultiLvlLbl val="0"/>
      </c:catAx>
      <c:valAx>
        <c:axId val="13557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62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AD1-FD8E-4093-A62D-A2A9C367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2E2-55DD-4CA7-AF79-7E059963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FA8-CABA-4B4F-9F6F-5FED309E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FE5-2B49-4054-ACEC-FB3F0E10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B4D-C814-4F7A-9683-2C69A9D3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AF2-F6B6-4F09-A900-9016580D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EBC-8FC5-405E-A3E4-0175C8B0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05C-26A2-46CE-B3E0-C264ACE3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9F1-BFD0-445D-8702-934B6606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0DF-07CF-44E4-88D8-C26BF8D8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5AC-E783-4474-A9D3-68E5A56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700-5DCF-49E5-A20F-0D0621A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208D3-035F-40F8-A36A-77C183000B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