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310241"/>
        <c:axId val="11761797"/>
      </c:barChart>
      <c:catAx>
        <c:axId val="231024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761797"/>
        <c:crosses val="autoZero"/>
        <c:auto val="1"/>
        <c:lblAlgn val="ctr"/>
        <c:lblOffset val="100"/>
        <c:noMultiLvlLbl val="0"/>
      </c:catAx>
      <c:valAx>
        <c:axId val="1176179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1024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4811-BDBC-4493-A7D7-5BCA99841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1F7A-AFFC-4AD3-9995-3CF059008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9878-AF2D-441B-908B-55BB4DF0C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ADBA-AC6A-449E-B46C-23AC9BA8A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605A-65EB-4DFA-A28C-3904F733C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5F7E-E02D-4E5E-8055-2FAD0E8B1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B35E-C252-44CA-98B1-937376D46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2145-8BF8-4A50-99CA-3C1D534A8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0F66-7D70-4529-AE19-35F3E823A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E0FA-F60F-4D37-9AB0-A2F3126D9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BDFC-AC7B-4689-81E3-BA0AA676A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3877-0947-4023-9BF4-FD86365E1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32EDEE-8D2F-4A59-9FC3-87AB5B4BE3D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