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207704"/>
        <c:axId val="82624265"/>
      </c:barChart>
      <c:catAx>
        <c:axId val="73207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24265"/>
        <c:crosses val="autoZero"/>
        <c:auto val="1"/>
        <c:lblAlgn val="ctr"/>
        <c:lblOffset val="100"/>
        <c:noMultiLvlLbl val="0"/>
      </c:catAx>
      <c:valAx>
        <c:axId val="82624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07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0A5-0CC6-495B-90EB-EABBC68B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7C6-8CC0-45AA-B9D2-528D85B7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1F4-B80E-4AE4-9AAC-DEB4DDD6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743-3B33-4904-8EEC-91930E1F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E24-5909-4EAE-BCD8-738AAD99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01F-55FE-4D1F-9CE0-014FEA7F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1BB-F748-48D3-9DBF-1579DEAA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D93-CB20-4793-835F-4CB86C79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A8B-A78B-4575-97DF-55A9FD2B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471-3765-46B1-98AB-695DF16A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00A-0C50-45EC-98CB-F106306C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E4D-768D-4D57-8CAD-66B3458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DF8DF-3CBC-4DA5-9DC7-15909F3206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