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82320"/>
        <c:axId val="70016892"/>
      </c:barChart>
      <c:catAx>
        <c:axId val="40182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6892"/>
        <c:crosses val="autoZero"/>
        <c:auto val="1"/>
        <c:lblAlgn val="ctr"/>
        <c:lblOffset val="100"/>
        <c:noMultiLvlLbl val="0"/>
      </c:catAx>
      <c:valAx>
        <c:axId val="70016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2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F9D-AA55-4FBE-9BDC-881859B7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C67-D1A1-4148-A364-F06ABF2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865-774E-4C48-8574-358D2E5F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D78-ABF4-416E-8C40-9BBCC326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5BC-7CEB-481D-97DF-B9BE19F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BC8-C627-4A3A-8D23-476851C7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05F-6623-42F9-8F20-42DA1EA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43B-1FCC-48AC-A0F8-A315747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9FF-0159-4EA4-9BCB-569BD83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B89-9FC3-405A-9CE9-20008274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E58-27D7-486D-82B3-3B07566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B7D-CECC-470D-911B-9B04E03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44206-DD5A-43D5-86C6-B2CC6A350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