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24677"/>
        <c:axId val="39644507"/>
      </c:barChart>
      <c:catAx>
        <c:axId val="19524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44507"/>
        <c:crosses val="autoZero"/>
        <c:auto val="1"/>
        <c:lblAlgn val="ctr"/>
        <c:lblOffset val="100"/>
        <c:noMultiLvlLbl val="0"/>
      </c:catAx>
      <c:valAx>
        <c:axId val="39644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4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100-BEC7-49D9-92F9-EF65F9CB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985-657A-4E12-93E3-2C06A0A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073-2E58-4843-94D9-427A707F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8B2-3C32-4711-86B9-739F4282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85D-ACCF-40DA-9868-618477C4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8DA-D9EA-416D-AB12-5DD26AE4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808-4534-4548-BC66-968A1095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362-BD11-4175-9189-F963CEA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E30-A5EA-4EE6-8496-97DAE561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61B-8567-4CC3-AE2F-51D97E0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497-A736-4C08-8D31-F2B8C872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01A-4DD8-4C76-8B4C-98C4099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7463C-3F19-4B38-8FF5-CA3BF01194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