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05247"/>
        <c:axId val="83736316"/>
      </c:barChart>
      <c:catAx>
        <c:axId val="22005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36316"/>
        <c:crosses val="autoZero"/>
        <c:auto val="1"/>
        <c:lblAlgn val="ctr"/>
        <c:lblOffset val="100"/>
        <c:noMultiLvlLbl val="0"/>
      </c:catAx>
      <c:valAx>
        <c:axId val="83736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05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051-6F9D-4188-91BF-05E8ED82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06A-A840-4C7F-B9D9-3D38D31F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195-ABFC-472B-A7A5-7420D960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AEF-97F1-41B5-8A59-BBA446C5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4B0-BB60-403D-BBA2-3A94EF06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A63-6481-4712-AE9E-555AE962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0AF-0518-46F3-B23F-8BC1BBA5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D3D-73B6-4AB7-94C0-F9ECA567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DC4-6C70-4826-A892-9ABBBAAC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145-9340-418B-96F3-AA6D8383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57D-AE11-42D7-A7C6-99C29D2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AE1-0BD6-46A5-8D4D-092CDE7A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8D62A-54FC-4DC3-9D90-5F6F9AFA5E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