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446526"/>
        <c:axId val="22585104"/>
      </c:barChart>
      <c:catAx>
        <c:axId val="414465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85104"/>
        <c:crosses val="autoZero"/>
        <c:auto val="1"/>
        <c:lblAlgn val="ctr"/>
        <c:lblOffset val="100"/>
        <c:noMultiLvlLbl val="0"/>
      </c:catAx>
      <c:valAx>
        <c:axId val="225851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465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5C7B-65F3-4E26-A791-B86E5C8CC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2521-314D-4ADE-A14A-4432E6E3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1955-728C-4629-8F35-636B1E855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1E09-948C-446F-A822-2B7D0EF2E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90E3-3057-4CEF-88DA-3B7B4B6A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07C5-8441-40CF-A998-64D53933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BDFB-C1AC-4830-93C2-6EA60402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8CBC-2110-481D-8818-40CE3E13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1092-CF12-475B-8F4A-950387A6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B594-8812-4F16-990E-965017DE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2482-D528-4720-9E62-7BB1C1F0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69EE-B1F4-4DA6-AF05-A11DCD2A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2743E-5316-4E88-BC7B-04C18D2349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