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88832"/>
        <c:axId val="82688299"/>
      </c:barChart>
      <c:catAx>
        <c:axId val="84288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88299"/>
        <c:crosses val="autoZero"/>
        <c:auto val="1"/>
        <c:lblAlgn val="ctr"/>
        <c:lblOffset val="100"/>
        <c:noMultiLvlLbl val="0"/>
      </c:catAx>
      <c:valAx>
        <c:axId val="82688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88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6379-71A7-4622-BD01-B4948721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B8A-CEB9-4D26-B91B-ABAC9393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AEB1-F47E-4EBD-942E-24C57107D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AE35-5454-4066-B2E7-42C0C52A9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AE31-EE8F-43F9-B661-508CB854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059-3897-483B-9EBD-EEE30983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B226-DE10-4337-BD2D-CBCE32C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38A-A49B-4076-A7FD-F636D639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68F2-94B0-4330-9609-B9177886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6EEB-DA71-467E-9220-86D5D1C3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228-7C3A-4AB6-93E8-2035EFE9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464A-E700-4915-B19C-13790B3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DC7A7-A3E1-4FAD-B9AE-BCE035A6B2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