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FF1FD-7384-4026-A738-09C4A18DC5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66059-9270-4217-8925-931C163A3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A6C08-8158-4F97-AFFB-201D7882DC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DB90-7A4D-4ABC-AD48-B610E6DBE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95A3F-9898-4361-8990-3563520C60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B2E80-2450-4987-93CA-611A3F594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F4F17-53ED-40E4-9494-D519A681B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D063B-F8C6-43FD-9CBF-1623216D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38F7D-16D5-49FF-8B7A-311AA102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F3624-FC2D-4303-8969-B3D3AF717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0A6E5-F45D-409C-B3A3-E26922B1A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67E92-F048-48A5-AD35-608EE32C5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B64D-5DA5-4CCA-A7BB-631D16D195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1527120" y="1400040"/>
          <a:ext cx="6087960" cy="40579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120" y="1400040"/>
                    <a:ext cx="6087960" cy="405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09:24:23Z</dcterms:created>
  <dc:creator>Oliver Craemer</dc:creator>
  <dc:description/>
  <dc:language>en-US</dc:language>
  <cp:lastModifiedBy>Oliver Craemer</cp:lastModifiedBy>
  <dcterms:modified xsi:type="dcterms:W3CDTF">2005-01-06T09:24:29Z</dcterms:modified>
  <cp:revision>1</cp:revision>
  <dc:subject/>
  <dc:title>Slide 1</dc:title>
</cp:coreProperties>
</file>