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A1DF3-C167-45A8-B0BE-6D7D9577B9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A446-54F6-4D35-9F96-5DC47F599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70CEA-F36C-406A-8CE4-8ACA642F98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AF7A-FFC5-40B5-B6A1-371E53DE3E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563F-2A2E-4E18-B591-DA29C6E90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5B043-B668-4CAD-9945-2B79EE65D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AC63-3011-4C11-B5EB-F9E4445C1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7850D-2829-47E5-9D7A-EB7B999D4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0F5DA-DAA8-408D-8AD8-CFF3C3E16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53542-06EC-4C5C-9F3B-545AF45958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4B33C-C130-4069-B0B4-D3482A8A6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7551-A628-4BE2-A0A8-9EF08D577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5F921-A480-4EAD-AB9D-5C7CCCAC1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Math O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4343400" y="4114800"/>
                <a:ext cx="771480" cy="380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∈</m:t>
                    </m:r>
                    <m:nary>
                      <m:naryPr>
                        <m:chr m:val="∰"/>
                        <m:supHide m:val="1"/>
                      </m:naryPr>
                      <m:sub>
                        <m:r>
                          <m:t xml:space="preserve">n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/>
                      <m:e>
                        <m:r>
                          <m:t xml:space="preserve">f</m:t>
                        </m:r>
                        <m:r>
                          <m:t xml:space="preserve">(</m:t>
                        </m:r>
                        <m:r>
                          <m:t xml:space="preserve">x</m:t>
                        </m:r>
                        <m:r>
                          <m:t xml:space="preserve">)</m:t>
                        </m:r>
                      </m:e>
                    </m:nary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06T11:09:10Z</dcterms:created>
  <dc:creator>Oliver Craemer</dc:creator>
  <dc:description/>
  <dc:language>en-US</dc:language>
  <cp:lastModifiedBy>Oliver Craemer</cp:lastModifiedBy>
  <dcterms:modified xsi:type="dcterms:W3CDTF">2005-01-06T11:09:21Z</dcterms:modified>
  <cp:revision>1</cp:revision>
  <dc:subject/>
  <dc:title>Math OLE</dc:title>
</cp:coreProperties>
</file>