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870EB-B3DC-4C59-A4B0-CAF205875D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2A2E7-DDC3-43F5-A1C2-5905BAA12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0BFB1-CC24-44F6-8328-FACF1509D2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3777F-5C7B-4509-96A1-8890B6642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6DE5-AE84-4DF9-A521-064850E43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7F0D0-F8F6-48CC-B270-D5CF8F702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3F954-FFB7-466E-9FA2-5F9E86D056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74108-9F13-443A-9BD0-8EE8B94BD4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E1D0F-44CF-4382-913A-7289E3D62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F4B4A-0586-4D19-83C4-ACB33F63E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8555A-ACAA-4670-9421-FCA15CA29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12C84-682F-4DD0-9F3C-948A4E4E0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584BF-671B-42C2-9D38-6B39A57EBE5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19200" y="1400040"/>
          <a:ext cx="6105600" cy="4057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19200" y="1400040"/>
                    <a:ext cx="610560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3:31Z</dcterms:created>
  <dc:creator>Oliver Craemer</dc:creator>
  <dc:description/>
  <dc:language>en-US</dc:language>
  <cp:lastModifiedBy>Oliver Craemer</cp:lastModifiedBy>
  <dcterms:modified xsi:type="dcterms:W3CDTF">2005-01-06T09:23:42Z</dcterms:modified>
  <cp:revision>1</cp:revision>
  <dc:subject/>
  <dc:title>Slide 1</dc:title>
</cp:coreProperties>
</file>