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1CD89-3D65-4418-9BB2-C431907A8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0E9D-E4F8-46A9-90DC-B1AB771BC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9950-EC67-4AD0-98BD-7A28F93C6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2143C-70EE-4EE6-A3C1-E427CFAAC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0778-773A-45B9-B093-D6D5CFE22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EF6A-6260-4F83-9BE7-E3DA51EBE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D3E8B-B655-433B-8649-2CEA24E86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A812C-BE92-4D38-A0D3-D39CD49C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D456-F9A8-4232-8DCB-819E3AAF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EABB-7D63-4828-A669-5FB918C8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2D14-B194-47FD-AD76-6BBBF275C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4FBC-1064-4BB6-9F22-9F3A6DEB6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4039-5DEC-4943-A252-3E01A7E803B1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7048440" y="121428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8963" y="-32344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7148520" y="15210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89640" y="174456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89213" y="4000"/>
                </a:lnTo>
                <a:lnTo>
                  <a:pt x="89213" y="-16594"/>
                </a:lnTo>
                <a:lnTo>
                  <a:pt x="-68438" y="-37294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6410160" y="105732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250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7068960" y="1809720"/>
            <a:ext cx="914400" cy="609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54350" y="-50850"/>
                </a:moveTo>
                <a:lnTo>
                  <a:pt x="-1800" y="40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19840" y="115740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597640" y="1965240"/>
            <a:ext cx="914400" cy="60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43425" y="4000"/>
                </a:lnTo>
                <a:lnTo>
                  <a:pt x="43425" y="-25313"/>
                </a:lnTo>
                <a:lnTo>
                  <a:pt x="-109950" y="-5473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No Bord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570720" y="620640"/>
            <a:ext cx="914400" cy="914400"/>
          </a:xfrm>
          <a:prstGeom prst="borderCallout3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62840" y="231156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143888" y="-49725"/>
                </a:moveTo>
                <a:lnTo>
                  <a:pt x="-1800" y="4000"/>
                </a:lnTo>
              </a:path>
              <a:path w="21600" h="21600">
                <a:moveTo>
                  <a:pt x="-1800" y="0"/>
                </a:moveTo>
                <a:lnTo>
                  <a:pt x="-18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380280" y="2470320"/>
            <a:ext cx="914400" cy="609480"/>
          </a:xfr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Rounded Rectangular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5618160" y="203688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51150" y="4000"/>
                </a:lnTo>
                <a:lnTo>
                  <a:pt x="51150" y="-29925"/>
                </a:lnTo>
                <a:lnTo>
                  <a:pt x="-125475" y="-63956"/>
                </a:lnTo>
              </a:path>
              <a:path w="21600" h="21600">
                <a:moveTo>
                  <a:pt x="23400" y="0"/>
                </a:moveTo>
                <a:lnTo>
                  <a:pt x="23400" y="216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 (Border and 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Oval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Cloud Callo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7380360" y="912960"/>
            <a:ext cx="914400" cy="914400"/>
          </a:xfrm>
          <a:prstGeom prst="borderCallout1">
            <a:avLst>
              <a:gd name="adj1" fmla="val -161588"/>
              <a:gd name="adj2" fmla="val -1800"/>
              <a:gd name="adj3" fmla="val 18900"/>
              <a:gd name="adj4" fmla="val -18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7265880" y="2087640"/>
            <a:ext cx="914400" cy="609480"/>
          </a:xfrm>
          <a:prstGeom prst="borderCallout1">
            <a:avLst>
              <a:gd name="adj1" fmla="val 18750"/>
              <a:gd name="adj2" fmla="val -8333"/>
              <a:gd name="adj3" fmla="val -169791"/>
              <a:gd name="adj4" fmla="val -63316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6151680" y="1077840"/>
            <a:ext cx="914400" cy="6098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313541"/>
              <a:gd name="adj5" fmla="val -129689"/>
              <a:gd name="adj6" fmla="val -6303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805280" y="1581120"/>
            <a:ext cx="914400" cy="60948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none" w="21600" h="21600">
                <a:moveTo>
                  <a:pt x="23400" y="4000"/>
                </a:moveTo>
                <a:lnTo>
                  <a:pt x="64500" y="4000"/>
                </a:lnTo>
                <a:lnTo>
                  <a:pt x="64500" y="-11138"/>
                </a:lnTo>
                <a:lnTo>
                  <a:pt x="-71850" y="-26381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40440" y="409680"/>
            <a:ext cx="914400" cy="914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w="21600" h="21600">
                <a:moveTo>
                  <a:pt x="-84863" y="-1800"/>
                </a:moveTo>
                <a:lnTo>
                  <a:pt x="18900" y="-1800"/>
                </a:lnTo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68360" y="5877000"/>
            <a:ext cx="784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Callouts: Line Callout 1 (Accent B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1:34:46Z</dcterms:created>
  <dc:creator>tb121644</dc:creator>
  <dc:description/>
  <dc:language>en-US</dc:language>
  <cp:lastModifiedBy>tb121644</cp:lastModifiedBy>
  <dcterms:modified xsi:type="dcterms:W3CDTF">2005-05-25T12:19:33Z</dcterms:modified>
  <cp:revision>2</cp:revision>
  <dc:subject/>
  <dc:title>Slide 1</dc:title>
</cp:coreProperties>
</file>