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DB2E-5EF1-4EB2-8D6D-3A9CD1BE5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0A2D-B4B1-4503-BCE6-5BA05875F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DF17A-7E73-4C40-B791-6AD04F5DB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E8D3-5A87-4EE2-898A-6DC4409985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E6E8-CF43-411B-9247-1EF8B923E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CF61-5533-4337-A9F8-387EE7B1E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CB8A-22C9-43C0-BE9A-8DD7899DD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6B5A-A7F0-4DB3-9CB8-E4BF49D394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4608-5C73-4AA2-87CA-CA434FCBB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EE69A-5D11-4E25-858C-87E7165F8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9AA6-C2B1-4741-AB3E-1B3B9FDAF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1F8-9A67-4515-9116-7F7D8B9E1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DEC73-A269-4E3E-A822-D194EF6AF49D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irregularSeal1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449640 h 3598560"/>
              <a:gd name="textAreaBottom" fmla="*/ 35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675" stAng="16200000" swAng="5400000"/>
                <a:lnTo>
                  <a:pt x="8100" y="2700"/>
                </a:lnTo>
                <a:lnTo>
                  <a:pt x="13500" y="2700"/>
                </a:lnTo>
                <a:lnTo>
                  <a:pt x="13500" y="675"/>
                </a:lnTo>
                <a:arcTo wR="675" hR="675" stAng="10800000" swAng="5400000"/>
                <a:lnTo>
                  <a:pt x="21600" y="0"/>
                </a:lnTo>
                <a:lnTo>
                  <a:pt x="18900" y="9450"/>
                </a:lnTo>
                <a:lnTo>
                  <a:pt x="21600" y="18900"/>
                </a:lnTo>
                <a:lnTo>
                  <a:pt x="16200" y="18900"/>
                </a:lnTo>
                <a:lnTo>
                  <a:pt x="16200" y="20925"/>
                </a:lnTo>
                <a:arcTo wR="675" hR="675" stAng="0" swAng="5400000"/>
                <a:lnTo>
                  <a:pt x="6075" y="21600"/>
                </a:lnTo>
                <a:arcTo wR="675" hR="675" stAng="5400000" swAng="5400000"/>
                <a:lnTo>
                  <a:pt x="5400" y="18900"/>
                </a:lnTo>
                <a:lnTo>
                  <a:pt x="0" y="18900"/>
                </a:lnTo>
                <a:lnTo>
                  <a:pt x="2700" y="9450"/>
                </a:lnTo>
                <a:close/>
              </a:path>
              <a:path fill="none" w="21600" h="21600">
                <a:moveTo>
                  <a:pt x="8100" y="675"/>
                </a:moveTo>
                <a:arcTo wR="675" hR="675" stAng="0" swAng="5400000"/>
                <a:lnTo>
                  <a:pt x="6075" y="1350"/>
                </a:lnTo>
                <a:arcTo wR="675" hR="675" stAng="16200000" swAng="-5400000"/>
                <a:arcTo wR="675" hR="675" stAng="10800000" swAng="-5400000"/>
                <a:lnTo>
                  <a:pt x="8100" y="2700"/>
                </a:lnTo>
              </a:path>
              <a:path fill="none" w="21600" h="21600">
                <a:moveTo>
                  <a:pt x="13500" y="675"/>
                </a:moveTo>
                <a:arcTo wR="675" hR="675" stAng="10800000" swAng="-5400000"/>
                <a:lnTo>
                  <a:pt x="15525" y="1350"/>
                </a:lnTo>
                <a:arcTo wR="675" hR="675" stAng="16200000" swAng="5400000"/>
                <a:arcTo wR="675" hR="675" stAng="0" swAng="5400000"/>
                <a:lnTo>
                  <a:pt x="13500" y="2700"/>
                </a:lnTo>
              </a:path>
              <a:path fill="none" w="21600" h="21600">
                <a:moveTo>
                  <a:pt x="5400" y="2025"/>
                </a:moveTo>
                <a:lnTo>
                  <a:pt x="5400" y="18900"/>
                </a:lnTo>
              </a:path>
              <a:path fill="none" w="21600" h="21600">
                <a:moveTo>
                  <a:pt x="16200" y="2025"/>
                </a:moveTo>
                <a:lnTo>
                  <a:pt x="16200" y="189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106560 h 3598560"/>
              <a:gd name="textAreaBottom" fmla="*/ 26989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arcTo wR="21600" hR="20153" stAng="-7304956" swAng="976834"/>
                <a:lnTo>
                  <a:pt x="5400" y="640"/>
                </a:lnTo>
                <a:arcTo wR="21600" hR="20153" stAng="-6328122" swAng="1856244"/>
                <a:lnTo>
                  <a:pt x="16200" y="3340"/>
                </a:lnTo>
                <a:arcTo wR="21600" hR="20153" stAng="-4471878" swAng="976834"/>
                <a:lnTo>
                  <a:pt x="18900" y="12271"/>
                </a:lnTo>
                <a:lnTo>
                  <a:pt x="21600" y="21600"/>
                </a:lnTo>
                <a:lnTo>
                  <a:pt x="21600" y="21600"/>
                </a:lnTo>
                <a:arcTo wR="21600" hR="20153" stAng="-3495044" swAng="-1443536"/>
                <a:lnTo>
                  <a:pt x="13500" y="16358"/>
                </a:lnTo>
                <a:arcTo wR="21600" hR="20153" stAng="-4938580" swAng="-922840"/>
                <a:lnTo>
                  <a:pt x="8100" y="19058"/>
                </a:lnTo>
                <a:arcTo wR="21600" hR="20153" stAng="-5861420" swAng="-1443536"/>
                <a:lnTo>
                  <a:pt x="2700" y="12271"/>
                </a:lnTo>
                <a:close/>
              </a:path>
              <a:path fill="none" w="21600" h="21600">
                <a:moveTo>
                  <a:pt x="8100" y="16358"/>
                </a:moveTo>
                <a:arcTo wR="21600" hR="20153" stAng="-5861420" swAng="-466702"/>
                <a:lnTo>
                  <a:pt x="8100" y="19058"/>
                </a:lnTo>
              </a:path>
              <a:path fill="none" w="21600" h="21600">
                <a:moveTo>
                  <a:pt x="13500" y="16358"/>
                </a:moveTo>
                <a:arcTo wR="21600" hR="20153" stAng="-4938580" swAng="466702"/>
                <a:lnTo>
                  <a:pt x="13500" y="19058"/>
                </a:lnTo>
              </a:path>
              <a:path fill="none" w="21600" h="21600">
                <a:moveTo>
                  <a:pt x="5400" y="3340"/>
                </a:moveTo>
                <a:lnTo>
                  <a:pt x="5400" y="16840"/>
                </a:lnTo>
              </a:path>
              <a:path fill="none" w="21600" h="21600">
                <a:moveTo>
                  <a:pt x="16200" y="3340"/>
                </a:moveTo>
                <a:lnTo>
                  <a:pt x="16200" y="1684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899640 h 3598560"/>
              <a:gd name="textAreaBottom" fmla="*/ 34920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6200"/>
                </a:moveTo>
                <a:arcTo wR="21600" hR="20153" stAng="7304956" swAng="-976834"/>
                <a:lnTo>
                  <a:pt x="5400" y="20960"/>
                </a:lnTo>
                <a:arcTo wR="21600" hR="20153" stAng="6328122" swAng="-1856244"/>
                <a:lnTo>
                  <a:pt x="16200" y="18260"/>
                </a:lnTo>
                <a:arcTo wR="21600" hR="20153" stAng="4471878" swAng="-976834"/>
                <a:lnTo>
                  <a:pt x="18900" y="9329"/>
                </a:lnTo>
                <a:lnTo>
                  <a:pt x="21600" y="0"/>
                </a:lnTo>
                <a:lnTo>
                  <a:pt x="21600" y="0"/>
                </a:lnTo>
                <a:arcTo wR="21600" hR="20153" stAng="3495044" swAng="1443536"/>
                <a:lnTo>
                  <a:pt x="13500" y="5242"/>
                </a:lnTo>
                <a:arcTo wR="21600" hR="20153" stAng="4938580" swAng="922840"/>
                <a:lnTo>
                  <a:pt x="8100" y="2542"/>
                </a:lnTo>
                <a:arcTo wR="21600" hR="20153" stAng="5861420" swAng="1443536"/>
                <a:lnTo>
                  <a:pt x="2700" y="9329"/>
                </a:lnTo>
                <a:close/>
              </a:path>
              <a:path fill="none" w="21600" h="21600">
                <a:moveTo>
                  <a:pt x="8100" y="5242"/>
                </a:moveTo>
                <a:arcTo wR="21600" hR="20153" stAng="5861420" swAng="466702"/>
                <a:lnTo>
                  <a:pt x="8100" y="2542"/>
                </a:lnTo>
              </a:path>
              <a:path fill="none" w="21600" h="21600">
                <a:moveTo>
                  <a:pt x="13500" y="5242"/>
                </a:moveTo>
                <a:arcTo wR="21600" hR="20153" stAng="4938580" swAng="-466702"/>
                <a:lnTo>
                  <a:pt x="13500" y="2542"/>
                </a:lnTo>
              </a:path>
              <a:path fill="none" w="21600" h="21600">
                <a:moveTo>
                  <a:pt x="5400" y="18260"/>
                </a:moveTo>
                <a:lnTo>
                  <a:pt x="5400" y="4760"/>
                </a:lnTo>
              </a:path>
              <a:path fill="none" w="21600" h="21600">
                <a:moveTo>
                  <a:pt x="16200" y="18260"/>
                </a:moveTo>
                <a:lnTo>
                  <a:pt x="16200" y="476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Curved Down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Vertic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Horizontal 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7197840 w 7197480"/>
              <a:gd name="textAreaTop" fmla="*/ 466200 h 3598560"/>
              <a:gd name="textAreaBottom" fmla="*/ 31323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Double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irregularSeal2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Explosion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965680 w 7197480"/>
              <a:gd name="textAreaRight" fmla="*/ 4231800 w 7197480"/>
              <a:gd name="textAreaTop" fmla="*/ 1482840 h 3598560"/>
              <a:gd name="textAreaBottom" fmla="*/ 211572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star5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5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8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16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24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43040 w 7197480"/>
              <a:gd name="textAreaRight" fmla="*/ 5554440 w 7197480"/>
              <a:gd name="textAreaTop" fmla="*/ 821520 h 3598560"/>
              <a:gd name="textAreaBottom" fmla="*/ 277704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32-Point St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799280 w 7197480"/>
              <a:gd name="textAreaRight" fmla="*/ 5398200 w 7197480"/>
              <a:gd name="textAreaTop" fmla="*/ 0 h 3598560"/>
              <a:gd name="textAreaBottom" fmla="*/ 3148920 h 35985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84360" y="5805360"/>
            <a:ext cx="763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ars &amp; Banners: Up Ribb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21:57Z</dcterms:created>
  <dc:creator>tb121644</dc:creator>
  <dc:description/>
  <dc:language>en-US</dc:language>
  <cp:lastModifiedBy>tb121644</cp:lastModifiedBy>
  <dcterms:modified xsi:type="dcterms:W3CDTF">2005-05-25T11:22:14Z</dcterms:modified>
  <cp:revision>1</cp:revision>
  <dc:subject/>
  <dc:title>Slide 1</dc:title>
</cp:coreProperties>
</file>