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E504-45D8-432C-9824-AC8625E5B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FEB84-217F-4EC4-AEF3-DE61A2DB1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11D6-686E-4B5F-8146-4CB7FE151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28E4-15F5-4FD0-84AA-E7135947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E2F2F-2336-4DAE-9171-CDE252DF3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C5A68-4CA6-4837-B663-F7902527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E9172-582A-4449-A21E-0E2EB314A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13A2-D389-486D-8D3E-8885BF5D7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9CA1B-C80E-4BCB-B5CB-6D3ECD41C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D1F8-019F-4A47-8300-B53199EDF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62B4C-1113-4DFB-AEE1-C4D42EE0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B3BA-7C27-4E27-AFDF-4A51C814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7EAF5-B5A0-4012-8F2D-1A6376F9B925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flowChart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flowChartPrepa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pa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flowChartManualIn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flowChartManualOpera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nual Op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flowChart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flowChartOffpageConnec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ff-page Conn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flowChartPunchedCar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lowChartPunched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unched Ta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flowChartSummingJunct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umming J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flowChar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flowChartCollat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Col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flowChartAlternate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Alternate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flowChartSor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prstGeom prst="flowChartExtra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Ex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flowChartMer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er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flowChartOnline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tored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prstGeom prst="flowChartDe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358920" y="358920"/>
            <a:ext cx="7197480" cy="3598560"/>
          </a:xfrm>
          <a:prstGeom prst="flowChartMagneticTap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Sequential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flowChartMagneticDisk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agnetic D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flowChartMagneticDrum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rect Access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prstGeom prst="flowChartDisplay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isp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flowChartDecisi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eci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flowChartInputOutpu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flowChartPredefinedProcess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Predefined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flowChartInternalStorag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Internal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flowChart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flowChartMultidocumen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Multi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flowChartTerminator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Flowchart: Termin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03:09Z</dcterms:created>
  <dc:creator>tb121644</dc:creator>
  <dc:description/>
  <dc:language>en-US</dc:language>
  <cp:lastModifiedBy>tb121644</cp:lastModifiedBy>
  <dcterms:modified xsi:type="dcterms:W3CDTF">2005-05-25T11:15:34Z</dcterms:modified>
  <cp:revision>2</cp:revision>
  <dc:subject/>
  <dc:title>Slide 1</dc:title>
</cp:coreProperties>
</file>