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6F08-B487-4DB3-9BAE-075F28384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A8955-C15E-4D53-831E-E00A76B00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A24C-2731-4BFC-8DFC-2BA0016CF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54434-44D8-4508-AF99-B09C0F922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C9EF8-9B65-459C-BC2C-13C7086DC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CB46-34B4-4AC3-830B-C7499FA6E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716A-84FF-4FD9-9F49-C53BE7F46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9AE2-4872-4BF1-83E4-032612080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8B89-0F65-4C55-BA95-20442B70A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ACE8-3B1C-4BDF-863C-8B8376E74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062FC-8522-4A1A-B05C-5CA3C2758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25A6-7991-48AB-B086-1E373AEC6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6D10A-6EBB-4464-9226-6C820A230C0B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uturnArrow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-Tur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066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99040 w 7197480"/>
              <a:gd name="textAreaRight" fmla="*/ 6164640 w 7197480"/>
              <a:gd name="textAreaTop" fmla="*/ 2072520 h 3598560"/>
              <a:gd name="textAreaBottom" fmla="*/ 30823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964080 w 7197480"/>
              <a:gd name="textAreaRight" fmla="*/ 6233400 w 7197480"/>
              <a:gd name="textAreaTop" fmla="*/ 629640 h 3598560"/>
              <a:gd name="textAreaBottom" fmla="*/ 260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259280 w 7197480"/>
              <a:gd name="textAreaRight" fmla="*/ 5218200 w 7197480"/>
              <a:gd name="textAreaTop" fmla="*/ 482040 h 3598560"/>
              <a:gd name="textAreaBottom" fmla="*/ 31165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urved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124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Strip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899640 w 7197480"/>
              <a:gd name="textAreaRight" fmla="*/ 62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Notched 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leftArrow">
            <a:avLst>
              <a:gd name="adj1" fmla="val 50000"/>
              <a:gd name="adj2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hevr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rightArrowCallout">
            <a:avLst>
              <a:gd name="adj1" fmla="val 25002"/>
              <a:gd name="adj2" fmla="val 25000"/>
              <a:gd name="adj3" fmla="val 33335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eftArrowCallout">
            <a:avLst>
              <a:gd name="adj1" fmla="val 25002"/>
              <a:gd name="adj2" fmla="val 25000"/>
              <a:gd name="adj3" fmla="val 33335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upArrowCallout">
            <a:avLst>
              <a:gd name="adj1" fmla="val 50007"/>
              <a:gd name="adj2" fmla="val 50003"/>
              <a:gd name="adj3" fmla="val 16667"/>
              <a:gd name="adj4" fmla="val 6666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downArrowCallout">
            <a:avLst>
              <a:gd name="adj1" fmla="val 50007"/>
              <a:gd name="adj2" fmla="val 50003"/>
              <a:gd name="adj3" fmla="val 16667"/>
              <a:gd name="adj4" fmla="val 6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8100" y="16200"/>
                </a:lnTo>
                <a:lnTo>
                  <a:pt x="8100" y="18900"/>
                </a:lnTo>
                <a:lnTo>
                  <a:pt x="5500" y="18900"/>
                </a:lnTo>
                <a:lnTo>
                  <a:pt x="10800" y="21600"/>
                </a:lnTo>
                <a:lnTo>
                  <a:pt x="16100" y="18900"/>
                </a:lnTo>
                <a:lnTo>
                  <a:pt x="13500" y="18900"/>
                </a:lnTo>
                <a:lnTo>
                  <a:pt x="135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3500" y="5400"/>
                </a:lnTo>
                <a:lnTo>
                  <a:pt x="13500" y="2700"/>
                </a:lnTo>
                <a:lnTo>
                  <a:pt x="16100" y="2700"/>
                </a:lnTo>
                <a:lnTo>
                  <a:pt x="10800" y="0"/>
                </a:lnTo>
                <a:lnTo>
                  <a:pt x="5500" y="2700"/>
                </a:lnTo>
                <a:lnTo>
                  <a:pt x="8100" y="2700"/>
                </a:lnTo>
                <a:lnTo>
                  <a:pt x="810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5300" y="10800"/>
                </a:moveTo>
                <a:arcTo wR="-5500" hR="-5500" stAng="-10800000" swAng="-10800000"/>
                <a:lnTo>
                  <a:pt x="0" y="10800"/>
                </a:lnTo>
                <a:arcTo wR="10800" hR="10800" stAng="10800000" swAng="10800000"/>
                <a:lnTo>
                  <a:pt x="24300" y="10800"/>
                </a:lnTo>
                <a:lnTo>
                  <a:pt x="18950" y="16150"/>
                </a:lnTo>
                <a:lnTo>
                  <a:pt x="1360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Circular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95280" y="620640"/>
            <a:ext cx="6264360" cy="295272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leftRightArrow">
            <a:avLst>
              <a:gd name="adj1" fmla="val 50000"/>
              <a:gd name="adj2" fmla="val 3981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Up-Down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Quad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Left-Right-Up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661000"/>
            <a:ext cx="756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lock Arrows: Bent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0:52:08Z</dcterms:created>
  <dc:creator>tb121644</dc:creator>
  <dc:description/>
  <dc:language>en-US</dc:language>
  <cp:lastModifiedBy>tb121644</cp:lastModifiedBy>
  <dcterms:modified xsi:type="dcterms:W3CDTF">2005-05-25T10:52:24Z</dcterms:modified>
  <cp:revision>1</cp:revision>
  <dc:subject/>
  <dc:title>Slide 1</dc:title>
</cp:coreProperties>
</file>