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6843-646E-400E-A6CC-B7CACDF0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9A7C-EC63-4169-8EC8-7A919F4B7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5171-3511-4298-866A-07CEC71B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600C9-8277-4542-BE81-4695CE7F8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DB31-C6DE-4967-8EC1-E1426CB3E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5E92-12F5-4D6F-AB89-3E31EEE92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065F-C88A-4BA6-B7C9-CDED3DDBC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CB5CB-596F-497F-B5AF-42942B653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D579-547D-4D85-AA5A-9712965CF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9B76-9581-4E74-9016-CA6DC917C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EFA1-D408-4C23-A467-E35B75471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CFE4-CA3D-4731-8D02-C72F6216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D1FD6-DA23-428D-8BAC-CC7DCB45AC00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prstGeom prst="hexagon">
            <a:avLst>
              <a:gd name="adj" fmla="val 50003"/>
              <a:gd name="vf" fmla="val 11547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x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ro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egular Pen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358920" y="358920"/>
            <a:ext cx="7197480" cy="3598560"/>
          </a:xfrm>
          <a:prstGeom prst="ca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58920" y="358920"/>
            <a:ext cx="7197480" cy="359856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C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58920" y="358920"/>
            <a:ext cx="7197480" cy="3598560"/>
          </a:xfrm>
          <a:prstGeom prst="beve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358920" y="358920"/>
            <a:ext cx="7197480" cy="3598560"/>
          </a:xfrm>
          <a:prstGeom prst="foldedCorner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Folded Cor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58920" y="358920"/>
            <a:ext cx="7197480" cy="3598560"/>
          </a:xfrm>
          <a:prstGeom prst="smileyFace">
            <a:avLst>
              <a:gd name="adj" fmla="val 92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miley 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358920" y="358920"/>
            <a:ext cx="7197480" cy="3598560"/>
          </a:xfrm>
          <a:prstGeom prst="donut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n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8920" y="358920"/>
            <a:ext cx="7197480" cy="3598560"/>
          </a:xfrm>
          <a:prstGeom prst="noSmoking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“No“ Symb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58920" y="358920"/>
            <a:ext cx="7197480" cy="3598560"/>
          </a:xfrm>
          <a:prstGeom prst="parallelogram">
            <a:avLst>
              <a:gd name="adj" fmla="val 5000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arallelo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358920" y="358920"/>
            <a:ext cx="7197480" cy="3598560"/>
          </a:xfrm>
          <a:prstGeom prst="blockArc">
            <a:avLst>
              <a:gd name="adj1" fmla="val 10800000"/>
              <a:gd name="adj2" fmla="val 0"/>
              <a:gd name="adj3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Block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691640 w 7197480"/>
              <a:gd name="textAreaRight" fmla="*/ 5501160 w 7197480"/>
              <a:gd name="textAreaTop" fmla="*/ 423000 h 3598560"/>
              <a:gd name="textAreaBottom" fmla="*/ 2257200 h 359856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He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58920" y="358920"/>
            <a:ext cx="7197480" cy="3598560"/>
          </a:xfrm>
          <a:prstGeom prst="lightningBol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ightning Bo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58920" y="358920"/>
            <a:ext cx="7197480" cy="3598560"/>
          </a:xfrm>
          <a:prstGeom prst="sun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Su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Mo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-6838200" y="358920"/>
            <a:ext cx="14394240" cy="7196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Ar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58920" y="358920"/>
            <a:ext cx="7197480" cy="35985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358920" y="358920"/>
            <a:ext cx="7197480" cy="3598560"/>
          </a:xfrm>
          <a:prstGeom prst="bracePair">
            <a:avLst>
              <a:gd name="adj" fmla="val 833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ouble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24080 w 7197480"/>
              <a:gd name="textAreaRight" fmla="*/ 6773400 w 7197480"/>
              <a:gd name="textAreaTop" fmla="*/ 424080 h 3598560"/>
              <a:gd name="textAreaBottom" fmla="*/ 3174480 h 3598560"/>
            </a:gdLst>
            <a:ahLst/>
            <a:rect l="textAreaLeft" t="textAreaTop" r="textAreaRight" b="textAreaBottom"/>
            <a:pathLst>
              <a:path w="4320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9600" y="21600"/>
                </a:lnTo>
                <a:arcTo wR="3600" hR="3600" stAng="10800000" swAng="5400000"/>
                <a:lnTo>
                  <a:pt x="43200" y="3600"/>
                </a:lnTo>
                <a:arcTo wR="3600" hR="3600" stAng="5400000" swAng="5400000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Plaq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115720 w 7197480"/>
              <a:gd name="textAreaRight" fmla="*/ 719784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1582560 w 7197480"/>
              <a:gd name="textAreaRight" fmla="*/ 5614920 w 7197480"/>
              <a:gd name="textAreaTop" fmla="*/ 791280 h 3598560"/>
              <a:gd name="textAreaBottom" fmla="*/ 280728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Trapez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5048280 w 7197480"/>
              <a:gd name="textAreaTop" fmla="*/ 149760 h 3598560"/>
              <a:gd name="textAreaBottom" fmla="*/ 344880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4598280 w 7197480"/>
              <a:gd name="textAreaRight" fmla="*/ 719784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Lef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0 w 7197480"/>
              <a:gd name="textAreaRight" fmla="*/ 2599200 w 7197480"/>
              <a:gd name="textAreaTop" fmla="*/ 93600 h 3598560"/>
              <a:gd name="textAreaBottom" fmla="*/ 3504960 h 3598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B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Diam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58920" y="358920"/>
            <a:ext cx="7197480" cy="35985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ounded Rect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58920" y="358920"/>
            <a:ext cx="7197480" cy="359856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ctag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58920" y="358920"/>
            <a:ext cx="7197480" cy="35985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Isosceles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58920" y="358920"/>
            <a:ext cx="7197480" cy="359856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Right Tri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58920" y="358920"/>
            <a:ext cx="7197480" cy="3598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4000" y="5661000"/>
            <a:ext cx="828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Basic Shapes: O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09:22:04Z</dcterms:created>
  <dc:creator>tb121644</dc:creator>
  <dc:description/>
  <dc:language>en-US</dc:language>
  <cp:lastModifiedBy>tb121644</cp:lastModifiedBy>
  <dcterms:modified xsi:type="dcterms:W3CDTF">2005-05-25T09:56:44Z</dcterms:modified>
  <cp:revision>2</cp:revision>
  <dc:subject/>
  <dc:title>Slide 1</dc:title>
</cp:coreProperties>
</file>