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C3C57-BB23-48FB-9C93-E9DB14330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2532-5159-41E1-83E1-189D3EA1B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A21D9-36AA-485A-B94C-E1F7C4ACE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3DF2-B68F-4E38-BB19-253AF8655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F265C-92E9-42C5-B151-70E49B16A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7F30-4D2E-44F5-8DE4-9462CF3CF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4F03-1A30-4F6D-AB44-DFFDF661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80E0-0085-4C8A-9A83-90D42CB2A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A7256-D6B7-4207-939A-94458EF39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F10C7-3AA7-4CA6-A895-46ED3B2BE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0E30-F22A-4FC7-896A-F5AF689FA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0D983-C584-4D16-B3F5-FB682BC19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93D1-D119-48EB-B41C-2BA41F13543A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3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5" name=""/>
          <p:cNvCxnSpPr/>
          <p:nvPr/>
        </p:nvCxnSpPr>
        <p:spPr>
          <a:xfrm>
            <a:off x="358560" y="358560"/>
            <a:ext cx="71982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Straight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7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4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9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1" name=""/>
          <p:cNvCxnSpPr/>
          <p:nvPr/>
        </p:nvCxnSpPr>
        <p:spPr>
          <a:xfrm>
            <a:off x="358560" y="358920"/>
            <a:ext cx="7198200" cy="359928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2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Elbow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3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9"/>
              <a:gd name="adj2" fmla="val 49994"/>
              <a:gd name="adj3" fmla="val 49989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54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5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49984"/>
              <a:gd name="adj2" fmla="val 49994"/>
              <a:gd name="adj3" fmla="val 4998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57" name=""/>
          <p:cNvCxnSpPr/>
          <p:nvPr/>
        </p:nvCxnSpPr>
        <p:spPr>
          <a:xfrm>
            <a:off x="358560" y="358920"/>
            <a:ext cx="7198200" cy="3599280"/>
          </a:xfrm>
          <a:prstGeom prst="curvedConnector5">
            <a:avLst>
              <a:gd name="adj1" fmla="val 50000"/>
              <a:gd name="adj2" fmla="val 49994"/>
              <a:gd name="adj3" fmla="val 5000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611280" y="5157720"/>
            <a:ext cx="79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onnectors: Curved Double-Arrow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00:13Z</dcterms:created>
  <dc:creator>tb121644</dc:creator>
  <dc:description/>
  <dc:language>en-US</dc:language>
  <cp:lastModifiedBy>tb121644</cp:lastModifiedBy>
  <dcterms:modified xsi:type="dcterms:W3CDTF">2005-05-25T09:04:25Z</dcterms:modified>
  <cp:revision>2</cp:revision>
  <dc:subject/>
  <dc:title>Slide 1</dc:title>
</cp:coreProperties>
</file>