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2BC6-A474-4F6C-AE03-748D0607A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0B91-351B-45F4-A86A-2FB30CAD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2B5A11-5040-4385-8867-A1A13A28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140162-65AC-4EB5-8D14-F0908265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58163-D506-4445-AA9D-7B298A39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497F57-8E75-46CB-BCC2-8B18DE0F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C7EF3-030F-48DF-996D-BB03F4B2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B8A3C-689D-4A5D-83ED-BCF61012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865060-0505-4F86-B963-5060ACD1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7A14A-CDF8-4447-B463-FFA9072F0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700C6-BAA1-49D5-8AAB-D78BECE07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559388-FA5E-4C30-AF81-8B414625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5DB9-7B09-408C-B225-025B8EE5D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7CC203-38AC-4407-A7F9-AA27EC8A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3D4C0C-EFD8-4C3A-833D-242DBB38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88A013-192C-4984-95BF-CAFD1B1A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94734A-17ED-49AB-A7B8-21603D4B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D0BB9E-A51A-4994-BC96-957E8D51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50BF28-1E5B-4A5D-86AE-CB7B3474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2BEF27-EDDA-44E3-AFB5-0BA4CFEA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6C45C5-FF00-4A9A-B887-600908AA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3A42C6-E8C7-4E52-B29B-BD6052FF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6DAC67-62C4-42BE-916C-9D19DCD6A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2F0D-B103-43CA-81A3-C7E186F9E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13C1FE-8B2B-4A13-97C8-0D1471A12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549B8-B05D-4278-B245-3D3EF3666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C4934-AB47-412F-B5F9-C383F227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88952-9086-4BB8-9594-C4D9F5E1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16D23-6CC9-4E86-BCFE-C6B09D16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29428-F104-4DA4-B670-61E1C16A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E896B-370D-4756-92C8-238B35F6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122B73-8BEC-4DFF-AED8-5A3207EF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9C091-DEC0-4777-A36C-8C6AA305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312BB-597D-45F2-8F7D-520905A1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C0F2-FC95-468F-88AD-0BB80E37D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F3106-2B05-45F9-AAFB-D048686C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83898-6528-43E8-BF6E-459FF1360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771DE-9133-477D-8D69-FF26F6CFE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EA9EFE-68DF-471E-8745-ECFBA8F54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53A8FD-F32F-4B77-90A1-B6FAAC53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DFF3FC-BAF3-41F7-A274-C4F6BBEE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EAE15B-225C-4720-9956-80E78C65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3EE724-DDB1-448A-B696-CF7A1088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ED32FC-B32F-4ADC-812A-24912943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A20293-80C3-4163-AC8F-BC2113D1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2EA8-7290-4431-97D5-CD61EF36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934DCF-A2B9-40A1-8F98-5C6918A1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874A08-DD82-4A15-9186-BB814EF3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9E4037-BD4B-429D-874B-F015B8D5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E52789-525C-44FC-ADD1-FE572D0C9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2CF109-911D-485D-A11A-450305F09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B158-070E-4FAE-A278-DCA095E9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210C-0D2A-437F-8D33-85C0FA26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1D7C-A26B-48C8-BCC3-51119F84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2D71-5496-47B1-B47F-0029B2B6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0C4B-E9DB-451C-BAB2-9A5F44F4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68D0-EF1A-457C-A108-77426B11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292E-CF6B-4609-A185-59A51E50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62C5-3482-4E0D-BB14-9AD9BA7D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7CFB-77E6-4EF2-A94D-E7AE5702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F8FF-4B2C-4B22-9351-F8A171658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21BF-C710-4BD4-B2FD-46BA2B1E1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B21B3-4480-4A55-AD74-A3533D51D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B23EE-067E-4125-A555-06201896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77112-D092-45C7-9DD6-29B692F2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1BB77-0358-4B26-8F09-3B4124C9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3B219-B8C1-4763-9B3A-02811EE8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F97E-1803-412A-8861-B00710B0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B5C6F-F885-4037-9F0E-53FFC8FE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00A30-FAC5-48CD-A96A-AA2F0B61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06E28-9220-42E7-9A41-7710BF64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12434-D9EC-4479-96A5-2660608D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26272-EF0D-4BE6-B3CF-1CB609D4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A8646-D3CD-4978-BA87-34E37EB57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41D3A-00D6-4BF5-B099-24093793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EF881-67D3-4EA5-8DC4-2A573EDF1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4FA72-ABE7-42F2-AF6B-43A09ACC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82E3D-7340-400C-BACF-527ADC31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40D0-011F-49D8-8868-BD9FB356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D78F0-EC87-4CBE-996B-1AD57D59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2ABC1-6F3F-4274-95C8-A5AEBCF9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43CA6-0E60-4387-A220-8D7C5AD7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E250E-7175-406D-85E4-7911F718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21576-3C9F-4863-A948-8D3560C0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548D5-4445-4D82-AC52-22DDC855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0CAB6-7A43-4DC3-9051-71E95111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E052C-14A9-4DF9-A89F-2D0E22561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B17B0-CE32-48EB-98FA-8A3F923E6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0577AD-9C1D-4839-94C2-23DDE9E64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5290-9576-40A1-B69D-39B7AB1C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50A21A-BB15-4F6F-8D5F-A2CF6FAC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7274A1-1B38-40CA-9F7C-D3C4BBA8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34FC1B-DB8A-4B99-A48A-9D16EBC6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6E5A5E-9638-4C2D-A033-4D234159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44D056-FB52-40D2-AA13-F21B77C4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C8D169-A542-4904-B7FE-758BDB98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613764-837A-4BD6-A1A0-293E098A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3D6CE0-6DAF-4D61-B7A9-99A975E9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ED8B04-7DC5-449C-A64E-28BE8030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6F686C-04D1-4172-92C6-659366F89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2243-ED1C-4BE0-9BA7-3B8F3333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31294D-CBAA-4218-B7BE-D4D4E01E3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5B5EA-54E9-44FF-8735-600DC1FE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30A09-B5B3-4679-AC16-6A4DAD16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1C2C7-6028-4063-B770-8861D8DA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2A7D8-E05B-4368-B19E-4825BB33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BE339-B76B-4D91-B156-E50A347D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C0412-BC05-4771-9B9B-CDC52FF8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1D6FF-2262-4219-9C17-1C29702A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71639-DE05-4C94-9851-8A990F1A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6539D-1253-4991-831F-F8867076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328E-512B-43F8-B34E-BEE11B66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0684E-0D02-4526-97C5-7FD713DF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B24DC-D798-46EA-8B91-F1EF9A3B6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E14D3-E9E0-4E50-B8A8-5EF383AF7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E13A1-4278-4C71-AF5A-25D3F15B4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4BB83-26AA-4CC3-AF99-4B7C80BA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33C7F-2279-4E5E-A077-5DDA924A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6BDEA-18F7-4F08-B5E9-93FAD467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214CE-55F4-4DC5-A02C-80B0B2C8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DB2F3-58B2-431D-8513-3173BA40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53BC9-85E3-4BFF-AD55-990833B4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F75E-0C2A-43FF-9D66-749EB001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ED1F9-5432-44F8-A1D7-80A12ECC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FB7E1-492C-46D8-9803-B488806C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5D008-0F84-4702-BCC4-CA0BE85F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B0212-51D1-4953-84F8-024392362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A4750-0EDF-49DC-A198-E977AC5CC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55A6D-5D51-4298-A911-15F5BB6F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89FAB-E227-408B-8FCA-44790E1B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360EE-BB6E-46DE-BABB-E9026868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CB6B4-D122-4396-A5AD-C018D0E8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3D96B-B299-4939-AD68-DA7FECE6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A52D-957D-41C9-8607-8B83CEC6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791BE-58CF-4D7D-873A-217D8264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B292E-8D8E-40EB-BBA6-CB3E3BC4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75235-E723-4073-A099-522EFA5B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4D96D-7EF3-49DB-AAE1-AD552B7C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FA26C-8781-47C1-BEF3-A44A77BC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AB4DB-7FCE-45A7-B3AA-34273B35D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CCDAD-D159-496C-8362-3C0B3B55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E27D1-9683-4247-8E79-2E70CA229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3214E-E8F6-43C6-B4A9-B340CDF5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3E5A83-5CD0-471F-AB12-B3164BAF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6182-DD2B-4AC9-917E-53FAB62CECD7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ED79-D728-4D2A-B940-EB854A64BA5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0E95-598C-45BD-8ACF-B740EC14CE0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AB8F-1098-416E-BA6A-A01319E55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9D9F-D289-4D4C-B543-87DE22E3CF12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465A-E432-4B5A-AF6A-0311049A7AD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2750-2E38-4FFD-8CC8-D4048620AC4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BB8C-4B50-4F6B-8EC8-6B7AD2B09C9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6C93-CEDC-4445-87E5-64579C4EE5E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9FF1-4C6D-4920-84FC-6298614E94C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ED7A-1305-4995-951A-41197185263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1AE2-D4B4-46EF-A286-8EE56EE0F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1CC9-3529-4C3F-B659-E97ADB53652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969F-6F2E-4715-A8A0-F0632E8DE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E826-3EB2-4437-8D8C-C98576DC5EA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CB35-35BC-4AFA-8F37-863D78E3739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10B0-4687-4116-82F0-CFD4BE39B7B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5500-7EA1-4566-A5D9-875583D967C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43D5-2FB4-48B8-B508-6E96CE2138D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1552-01FF-4AA6-8A70-D90E6484E19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D63E-BE48-4449-B4F1-F3FE0A270877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3C98-A2B9-4016-B2F8-46431CBCA82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FCF2-A1AE-411F-B944-83848F3CC26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CB1C-F0FC-4B86-96C2-76259BB78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D74C-466E-423F-AF29-28A8F821C62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380415-2A98-45A6-8DA7-BE9DD4860745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7E04E-F803-46BA-9E49-56A6E5E8C7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C2616A9C-DDAC-4E3A-AD42-400DEE93A3D1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2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D2403-B027-4EE6-8FAB-305D1E041C44}" type="slidenum">
              <a:t>3</a:t>
            </a:fld>
          </a:p>
        </p:txBody>
      </p:sp>
    </p:spTree>
  </p:cSld>
  <p:transition>
    <p:comb dir="horz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A68B1D-9943-4534-93FD-0226CAC8D84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5FD15A01-BAD1-43A4-8214-8AEA8231AD28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8000"/>
                            </p:stCondLst>
                            <p:childTnLst>
                              <p:par>
                                <p:cTn id="2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771A9-D6EE-4716-8BB3-DBBA9FAA5D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F7156C38-EE90-4820-90A6-9A68D2285C8D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0"/>
                            </p:stCondLst>
                            <p:childTnLst>
                              <p:par>
                                <p:cTn id="3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600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7000"/>
                            </p:stCondLst>
                            <p:childTnLst>
                              <p:par>
                                <p:cTn id="3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800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900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545074-E2FC-4680-872B-EF97035F9F5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5983FFDE-F785-49A9-BB5F-302C6D6381B2}" type="datetime1">
              <a:rPr lang="en-US"/>
              <a:t>07/28/26</a:t>
            </a:fld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7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