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50905"/>
        <c:axId val="83137036"/>
      </c:barChart>
      <c:catAx>
        <c:axId val="946509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37036"/>
        <c:crosses val="autoZero"/>
        <c:auto val="1"/>
        <c:lblAlgn val="ctr"/>
        <c:lblOffset val="100"/>
        <c:noMultiLvlLbl val="0"/>
      </c:catAx>
      <c:valAx>
        <c:axId val="831370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509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93B-8EF9-4EA1-98A8-8D40544E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7354-368F-4787-9BF1-96976EAA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BAA-C18F-4028-9461-8AD260A7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10C-5CB7-4C7F-B1B1-0ED52670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B9D4-FFA9-47C8-BDBC-326AB169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09D-3615-4902-AD79-4EBE4E6B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4BD-0834-4B33-9DA7-90F1DB0A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E82-48F9-45DE-AB0C-469BD1B4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A7E-AE59-424A-BD5A-7BC63B5D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27E-7AF0-4493-BE82-DB83BB91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97D-53C2-4093-8B83-612E6808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CFC-4331-4C74-BFC7-7F95FFB0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226EE-B1CB-4C61-A733-1AD71F62E3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