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64494"/>
        <c:axId val="18921881"/>
      </c:barChart>
      <c:catAx>
        <c:axId val="51164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1881"/>
        <c:crosses val="autoZero"/>
        <c:auto val="1"/>
        <c:lblAlgn val="ctr"/>
        <c:lblOffset val="100"/>
        <c:noMultiLvlLbl val="0"/>
      </c:catAx>
      <c:valAx>
        <c:axId val="18921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4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20C-5283-4141-91F5-807C8587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633-C3D0-4670-94C8-31F4C0B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50B-5A4C-4B3D-96DC-86365B49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525-6AD1-4AA8-A4F1-527C893E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0C0-A367-4AC6-9075-D0AC030A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BCF-A6D7-49B1-935D-80C97325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96D-2FD4-4D5F-8306-D839FBA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D9B-F789-4191-86DF-48FFCC7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387-AE17-4DE3-9DBA-934DE87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9CB-AA01-478C-9ACE-FA7BFE1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B5A-2CAF-49EB-ACB2-5EA4AC5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B78-19F2-4584-8105-92F1642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A26B2-B8DE-4C1A-8234-564AA9E4B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