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52207"/>
        <c:axId val="30800168"/>
      </c:barChart>
      <c:catAx>
        <c:axId val="64152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00168"/>
        <c:crosses val="autoZero"/>
        <c:auto val="1"/>
        <c:lblAlgn val="ctr"/>
        <c:lblOffset val="100"/>
        <c:noMultiLvlLbl val="0"/>
      </c:catAx>
      <c:valAx>
        <c:axId val="30800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52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7D4-EE39-499F-8449-20487C0E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915-26D0-4119-9F7A-57CB24AA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B2F-3DBC-4FB5-B839-B0D77AA4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72D-C92F-481A-B549-2E2CE2D3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8B4-09E2-4108-A2EF-9E2ADBF8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5EE-9580-4BAD-B3AB-B75AD722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EE1-9E3C-4CCD-8579-149BA558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901-180E-4AF7-920B-DDCE65F6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A22-A4CD-4B99-8E13-ACA9ACC4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DE1-F9DE-46BF-A7F9-F56144B1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A85-B52E-4B61-BC79-CDD95E12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5D7-A5D9-44FA-8982-1C850E9F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64D20-1933-4F95-8BB9-E86C2F6BBC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