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367377"/>
        <c:axId val="6365129"/>
      </c:barChart>
      <c:catAx>
        <c:axId val="573673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5129"/>
        <c:crosses val="autoZero"/>
        <c:auto val="1"/>
        <c:lblAlgn val="ctr"/>
        <c:lblOffset val="100"/>
        <c:noMultiLvlLbl val="0"/>
      </c:catAx>
      <c:valAx>
        <c:axId val="63651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673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6173-0CDD-4632-BFDB-25C8D050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10B4-8F45-4E2B-9ECC-360FF791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A5E5-5ADF-4907-AB66-86DBD653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4EB7-FDB2-4C06-8C1D-2E970669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6A27-577A-478C-A6C8-49A16F45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3436-4073-4BE5-A6E5-3331C59E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982E-CB99-425C-A9E7-DEA184CE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24F4-0EBD-427C-95C9-FFF3FCE8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19C7-7485-4E35-BFEA-0F3FA037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B5E3-99A7-4B26-9580-DC6054AE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29F8-07D1-4477-8200-880E205E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5D58-A5F7-41C3-8B6F-C3BFE1D6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6E807-2370-493F-BF27-5A83DB905F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